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7DE-C90F-4FCE-BF83-7254A219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69A-4642-442C-8BF7-98D7E33F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2AD-27F3-42B0-9F9D-E14A9B32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DE6-DFEF-438F-B337-20372DE6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EA6-1704-4DDB-A625-27D5339B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1F9-5F60-4D4E-91ED-9338CBE1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266-1BE8-41B1-8757-528627C2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EA6-D4BF-4C80-9C6F-37F7F48B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D74-43C1-4BF3-98B0-B687065C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3E8-7D7B-44FA-97DB-4F97EB88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9F5-E369-4E20-8FDF-CBC6C159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B40-353C-4211-B67C-C4590E53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1E7D-D475-45E8-9FBD-87E44C976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Eras Demi ITC"/>
              </a:rPr>
              <a:t>La Casa para la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Por: Saria Hande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La pis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4648320"/>
            <a:ext cx="3047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a piscina es muy lujosa y nueva. La piscina es me favorit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Lucida Bright"/>
              </a:rPr>
              <a:t>La cas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13716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622840"/>
            <a:ext cx="3124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ndara"/>
              </a:rPr>
              <a:t>Está</a:t>
            </a:r>
            <a:r>
              <a:rPr b="1" lang="en-US" sz="2500" spc="-1" strike="noStrike">
                <a:solidFill>
                  <a:srgbClr val="333399"/>
                </a:solidFill>
                <a:latin typeface="Candara"/>
                <a:ea typeface="Arial"/>
              </a:rPr>
              <a:t> en la Dreamcatcher calle. La cuesta $5,000,000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343400"/>
            <a:ext cx="22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La casa esta localizada en New York City, New Y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Los cua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5105520"/>
            <a:ext cx="4267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00ff"/>
                </a:solidFill>
                <a:latin typeface="Calibri"/>
              </a:rPr>
              <a:t>La casa tiene nueve cuartos y son muy grande. La cuartos son muy bonito, grande, moderno, y lujos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0968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"/>
              </a:rPr>
              <a:t>La dormitorio tiene una cama, una piscina, y una si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2362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cc99ff"/>
                </a:solidFill>
                <a:latin typeface="Rage Italic"/>
              </a:rPr>
              <a:t>La cocina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5410080"/>
            <a:ext cx="4419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La casa tiene dos cocinas y se trata con r</a:t>
            </a:r>
            <a:r>
              <a:rPr b="0" lang="es-ES" sz="2500" spc="-1" strike="noStrike">
                <a:solidFill>
                  <a:srgbClr val="ffffff"/>
                </a:solidFill>
                <a:latin typeface="Constantia"/>
              </a:rPr>
              <a:t>efrigerador, y estufa. Son moderno y lujos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lephant"/>
              </a:rPr>
              <a:t>Los cuarto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Elephant"/>
              </a:rPr>
              <a:t>de ba</a:t>
            </a:r>
            <a:r>
              <a:rPr b="0" lang="en-US" sz="4000" spc="-1" strike="noStrike">
                <a:solidFill>
                  <a:srgbClr val="ffffff"/>
                </a:solidFill>
                <a:latin typeface="Elephant"/>
                <a:ea typeface="Arial"/>
              </a:rPr>
              <a:t>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19112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Georgia"/>
              </a:rPr>
              <a:t>La casa tiene tres baños. Son muy bonita y fabuloso. Son dos en la planta baja y uno en el primer pi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55627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El cuarto de ba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ño tiene una ba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ñera, no tiene un ho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99ff"/>
                </a:solidFill>
                <a:latin typeface="Calisto MT"/>
              </a:rPr>
              <a:t>La sal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556272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cc00"/>
                </a:solidFill>
                <a:latin typeface="Gill Sans Ultra Bold"/>
              </a:rPr>
              <a:t>La casa tiene una sala. Son muy lujosa y bell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53341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La sala tiene un sof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Arial"/>
              </a:rPr>
              <a:t>á, y un lavab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48640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Kartika"/>
              </a:rPr>
              <a:t>La casa uno comedor son muy mod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2743200"/>
            <a:ext cx="16002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urlz MT"/>
              </a:rPr>
              <a:t>El comedor tiene la mesa,no tiene pintur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ZapfChancery"/>
              </a:rPr>
              <a:t>El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5334120"/>
            <a:ext cx="3504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ff"/>
                </a:solidFill>
                <a:latin typeface="Maiandra GD"/>
              </a:rPr>
              <a:t>El garaje es muy grande y magnif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49568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ntique Olive Roman"/>
              </a:rPr>
              <a:t>El garaje t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ntique Olive Roman"/>
              </a:rPr>
              <a:t>muchas car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Goudy Stout"/>
              </a:rPr>
              <a:t>La sala de televisi</a:t>
            </a:r>
            <a:r>
              <a:rPr b="0" lang="en-US" sz="4000" spc="-1" strike="noStrike">
                <a:solidFill>
                  <a:srgbClr val="00ff00"/>
                </a:solidFill>
                <a:latin typeface="Goudy Stout"/>
                <a:ea typeface="Arial"/>
              </a:rPr>
              <a:t>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5241960"/>
            <a:ext cx="4724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Lucida Sans Typewriter"/>
              </a:rPr>
              <a:t>La sala de televisi</a:t>
            </a:r>
            <a:r>
              <a:rPr b="1" lang="en-US" sz="2500" spc="-1" strike="noStrike">
                <a:solidFill>
                  <a:srgbClr val="ffffff"/>
                </a:solidFill>
                <a:latin typeface="Lucida Sans Typewriter"/>
                <a:ea typeface="Arial"/>
              </a:rPr>
              <a:t>ón es muy incredible y impresionate.Tiene las sofá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7:00:06Z</dcterms:created>
  <dc:creator>handelmansar</dc:creator>
  <dc:description/>
  <dc:language>en-US</dc:language>
  <cp:lastModifiedBy>handelmansar</cp:lastModifiedBy>
  <dcterms:modified xsi:type="dcterms:W3CDTF">2012-05-22T13:14:08Z</dcterms:modified>
  <cp:revision>33</cp:revision>
  <dc:subject/>
  <dc:title>La Casa para la Venta</dc:title>
</cp:coreProperties>
</file>